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8.png" ContentType="image/png"/>
  <Override PartName="/ppt/media/image13.png" ContentType="image/png"/>
  <Override PartName="/ppt/media/image11.png" ContentType="image/png"/>
  <Override PartName="/ppt/media/image6.wmf" ContentType="image/x-wmf"/>
  <Override PartName="/ppt/media/image30.png" ContentType="image/png"/>
  <Override PartName="/ppt/media/image28.png" ContentType="image/png"/>
  <Override PartName="/ppt/media/image31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E6BC-C3ED-435C-BC5C-B1D360C0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1932-DB49-4FCC-A8D7-E259D418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ABBF-B5A5-40ED-9D87-44D304EA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D37B-C4F4-4AF4-9495-B915134F1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1C50-E4EC-4CD9-8BE9-8393708EE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96B9-88FE-4B16-8C83-3A85A93E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8FE5-AFD4-4598-819A-2A966235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1324-B072-4D44-B694-4359953D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48F4-B045-4F21-9314-89AE74F6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660F-3F77-430C-86F5-2C5750B5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6A68-9059-42EB-98A0-CAB5D47B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4783-FBFF-4E37-9A52-CCC7CDE1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216C-224F-4667-99A2-5F08F8B1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816F-25C9-435F-9254-20553D96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C55A-B93E-43D0-BE0A-3688996D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A927-17CC-417C-BF66-4A4906A62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A3C0-6FAD-4CF6-9055-D0F2E710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167DA-9E91-4B2D-8AEA-69D19874D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E4826-7450-4FDD-A897-B6FDE33B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26AF1-44EC-416A-AD75-53B2929E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B1060-E96A-45F7-992B-44CE6310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46F65-63FF-44C6-BB24-7ECB5030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9A95-1EB4-4558-B705-1829ACD1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FA246-14DD-4BEA-BBCE-F1623BA6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9E7B2-B767-4D96-BF5C-9FF20C01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74736-8873-4D7A-9083-7CC28ECE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0BB32-43F8-4738-8E3D-26123997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1CA25-DB14-48AC-807D-D85FC74F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AA816-A595-414B-8EF8-676D6B77A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ECAA9-ACE1-49F9-9DDB-FCD821F01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6063E-F863-41CE-B270-704ED9BC2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E1736-E5EE-4D4F-8CF7-9537992E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44789-27E8-47AF-A449-16A906A0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73E8-4FB5-492D-9CF5-AE9C480A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E5FBC-0467-46FE-926D-516DE2EA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DB4D4-70D0-4511-ADCE-BAB94947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837DE-DE56-4C8E-8983-6BB3F124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D9BF6-0E05-4207-91DE-67333A4E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C16D6-E666-4BB1-863C-7F49DE99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B70CD-5CF0-4623-A4B4-3C217ECB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F4608-40E9-4667-9FFA-40B9F9FD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97B67-B641-4E7C-9161-E02B53947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D8DFB-8829-42A5-87DD-D73B32012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ADCA4-743F-4076-80A2-7560D21E4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AF4A-E08D-45E7-898F-494A0DD8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30E8C-B011-4D50-90D8-D2A0FFD9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8E6F2-06ED-4090-955A-B01DD043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2BFF1-D2BF-457F-B6D4-9A0AEB87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23D19-63E8-42DA-8A13-EC284BE2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4679D-3463-46FD-B0D3-BD6AF386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9B1C1-0A33-43DA-AD45-FF3820FB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151FF-196D-4D4C-B032-7391E4AF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DED99-2C03-4BCC-9429-3169500A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0B1AC-1BF5-4B5F-A85E-9646499A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CDE74-70AB-4460-82DD-550261E3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6C88-0465-4089-B7BA-4F0161F9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39774-7D10-4BDC-8F52-5C034D368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F90D6-71D0-4B19-9888-4650C2CBF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A28A3-E496-4A16-8AC4-AB3DBB13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4FE4E-50C7-4C7C-8D26-7C06704A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7BB67-7678-4EE8-B685-28C36FAF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15A74-3D47-41BD-B550-F30351A8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88A2C-861D-4380-9D56-E884DDC0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1B549-CE20-41A9-AAD5-7BECF2D5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C774D-072D-4E34-B472-EBA5A58C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C3634-480B-496C-BC32-17583AD4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73E3-C3AB-456A-B984-A7301914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8E543-5CDC-495F-973D-256D86E5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204F9-BF54-4A8C-8CB2-13A03077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B358E-B2C9-458D-B489-EFFC8BEEA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2D906-1437-4361-BDB4-85110D01C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6523B-8DD5-4BB0-B1F4-88DDA8F2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DA5BF-412C-43FB-8CA2-9FF3D4BE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F957F-6A5F-4F98-B341-A7D5551E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8DFBF-E390-4D3B-8877-15A50B3A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81F91-807E-49CC-BBCC-35E78717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798B2-E147-4AAC-984C-A2FED5FF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84D1-BB37-4E66-8C64-27D2E7F4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01835-AD18-411C-81FD-4BC05CBA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315E0-15AD-400E-97B9-7BE9A20C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E9033-32C0-4870-A46C-A8A25B09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C0B57-277D-4B95-8544-74E17DAAD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5AD3A-9491-4594-8D56-BA7043FBE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8A21-8E1D-4513-A6A7-6963EF08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3AF7-9B1A-4AF6-9789-F441F17AB2E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57E5-7485-4340-9BCF-532DBBCBEAF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1C93-FA3C-47E4-B6BC-7554B83986D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C68F-D363-4C85-B955-8C89D26C2C7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99B9-D15A-4B05-974C-5668EB77040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E8B5-B9F0-4D43-A137-8FFF3751112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17A9-DEBF-4812-ACB5-B1B9C78A8ED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image" Target="../media/image30.png"/><Relationship Id="rId16" Type="http://schemas.openxmlformats.org/officeDocument/2006/relationships/image" Target="../media/image31.png"/><Relationship Id="rId17" Type="http://schemas.openxmlformats.org/officeDocument/2006/relationships/image" Target="../media/image32.png"/><Relationship Id="rId1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Прямоугольник с двумя скругленными противолежащими углами 4"/>
          <p:cNvGrpSpPr/>
          <p:nvPr/>
        </p:nvGrpSpPr>
        <p:grpSpPr>
          <a:xfrm>
            <a:off x="865080" y="208080"/>
            <a:ext cx="8223480" cy="730080"/>
            <a:chOff x="865080" y="208080"/>
            <a:chExt cx="8223480" cy="730080"/>
          </a:xfrm>
        </p:grpSpPr>
        <p:pic>
          <p:nvPicPr>
            <p:cNvPr id="319" name="Прямоугольник с двумя скругленными противолежащими углами 4" descr=""/>
            <p:cNvPicPr/>
            <p:nvPr/>
          </p:nvPicPr>
          <p:blipFill>
            <a:blip r:embed="rId1"/>
            <a:stretch/>
          </p:blipFill>
          <p:spPr>
            <a:xfrm>
              <a:off x="865080" y="208080"/>
              <a:ext cx="8223480" cy="73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1009800" y="326880"/>
              <a:ext cx="7934040" cy="4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Georgia"/>
                </a:rPr>
                <a:t>Составление проекта бюджета города Омска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aphicFrame>
        <p:nvGraphicFramePr>
          <p:cNvPr id="321" name="Object 3"/>
          <p:cNvGraphicFramePr/>
          <p:nvPr/>
        </p:nvGraphicFramePr>
        <p:xfrm>
          <a:off x="250920" y="73080"/>
          <a:ext cx="506160" cy="42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73080"/>
                    <a:ext cx="50616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TextBox 6"/>
          <p:cNvSpPr/>
          <p:nvPr/>
        </p:nvSpPr>
        <p:spPr>
          <a:xfrm>
            <a:off x="928800" y="0"/>
            <a:ext cx="37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75a8d"/>
                </a:solidFill>
                <a:latin typeface="Arial Black"/>
              </a:rPr>
              <a:t>Администрация города Омска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TextBox 1"/>
          <p:cNvSpPr/>
          <p:nvPr/>
        </p:nvSpPr>
        <p:spPr>
          <a:xfrm>
            <a:off x="1001880" y="882720"/>
            <a:ext cx="809136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оставление проекта бюджета города Омска – исключительная прерогатива Администрации города Омска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Главная задача разработки проекта бюджета города Омска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— определение объема денежных средств, централизуемых в бюджете города Омска с целью финансового обеспечения функций, возложенных на Администрацию города Омска, и мероприятий, предусмотренных прогнозом социально-экономического развития города Омска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Непосредственная организация работы по подготовке проекта бюджета города Омска осуществляется департаментом финансов и контроля Администрации города Омска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роект бюджета города Омска составляется и утверждается сроком на три года (очередной финансовый год и плановый период)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Работа по составлению проекта бюджета города Омска начинается не позднее чем за девять месяцев до окончания текущего финансового года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TextBox 10"/>
          <p:cNvSpPr/>
          <p:nvPr/>
        </p:nvSpPr>
        <p:spPr>
          <a:xfrm>
            <a:off x="1241280" y="3543480"/>
            <a:ext cx="756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Сведения, необходимые для составления  проекта бюджета города Омска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26" name="Прямая со стрелкой 29"/>
          <p:cNvCxnSpPr/>
          <p:nvPr/>
        </p:nvCxnSpPr>
        <p:spPr>
          <a:xfrm flipV="1">
            <a:off x="3142800" y="5803200"/>
            <a:ext cx="924840" cy="7102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327" name="Прямая со стрелкой 33"/>
          <p:cNvCxnSpPr/>
          <p:nvPr/>
        </p:nvCxnSpPr>
        <p:spPr>
          <a:xfrm flipH="1" flipV="1">
            <a:off x="3126960" y="4441320"/>
            <a:ext cx="876960" cy="704160"/>
          </a:xfrm>
          <a:prstGeom prst="straightConnector1">
            <a:avLst/>
          </a:prstGeom>
          <a:ln w="25560">
            <a:solidFill>
              <a:srgbClr val="7f7f7f"/>
            </a:solidFill>
            <a:miter/>
            <a:headEnd len="med" type="triangle" w="med"/>
          </a:ln>
        </p:spPr>
      </p:cxnSp>
      <p:sp>
        <p:nvSpPr>
          <p:cNvPr id="328" name="Прямая соединительная линия 36"/>
          <p:cNvSpPr/>
          <p:nvPr/>
        </p:nvSpPr>
        <p:spPr>
          <a:xfrm flipV="1">
            <a:off x="3198960" y="5536800"/>
            <a:ext cx="804600" cy="322200"/>
          </a:xfrm>
          <a:prstGeom prst="line">
            <a:avLst/>
          </a:prstGeom>
          <a:ln w="25560">
            <a:solidFill>
              <a:srgbClr val="7f7f7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29" name="Прямая со стрелкой 54"/>
          <p:cNvCxnSpPr/>
          <p:nvPr/>
        </p:nvCxnSpPr>
        <p:spPr>
          <a:xfrm flipH="1" flipV="1">
            <a:off x="3188880" y="5145120"/>
            <a:ext cx="815040" cy="2782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headEnd len="med" type="triangle" w="med"/>
          </a:ln>
        </p:spPr>
      </p:cxnSp>
      <p:grpSp>
        <p:nvGrpSpPr>
          <p:cNvPr id="330" name="Скругленный прямоугольник 7"/>
          <p:cNvGrpSpPr/>
          <p:nvPr/>
        </p:nvGrpSpPr>
        <p:grpSpPr>
          <a:xfrm>
            <a:off x="3676680" y="3736800"/>
            <a:ext cx="2657520" cy="712800"/>
            <a:chOff x="3676680" y="3736800"/>
            <a:chExt cx="2657520" cy="712800"/>
          </a:xfrm>
        </p:grpSpPr>
        <p:pic>
          <p:nvPicPr>
            <p:cNvPr id="331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3676680" y="3736800"/>
              <a:ext cx="265752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3743280" y="3878280"/>
              <a:ext cx="2467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3b1d15"/>
                  </a:solidFill>
                  <a:latin typeface="Georgia"/>
                </a:rPr>
                <a:t>Бюджетное послание Президента Российской Федерации</a:t>
              </a:r>
              <a:endParaRPr b="0" lang="en-US" sz="11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333" name="Скругленный прямоугольник 9"/>
          <p:cNvGrpSpPr/>
          <p:nvPr/>
        </p:nvGrpSpPr>
        <p:grpSpPr>
          <a:xfrm>
            <a:off x="6838920" y="3968640"/>
            <a:ext cx="2244600" cy="719280"/>
            <a:chOff x="6838920" y="3968640"/>
            <a:chExt cx="2244600" cy="719280"/>
          </a:xfrm>
        </p:grpSpPr>
        <p:pic>
          <p:nvPicPr>
            <p:cNvPr id="334" name="Скругленный прямоугольник 9" descr=""/>
            <p:cNvPicPr/>
            <p:nvPr/>
          </p:nvPicPr>
          <p:blipFill>
            <a:blip r:embed="rId5"/>
            <a:stretch/>
          </p:blipFill>
          <p:spPr>
            <a:xfrm>
              <a:off x="6838920" y="3968640"/>
              <a:ext cx="22446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6907320" y="4113360"/>
              <a:ext cx="20509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3b1d15"/>
                  </a:solidFill>
                  <a:latin typeface="Georgia"/>
                </a:rPr>
                <a:t>Основные направления бюджетной и налоговой политики города Омска</a:t>
              </a:r>
              <a:endParaRPr b="0" lang="en-US" sz="11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336" name="Скругленный прямоугольник 11"/>
          <p:cNvGrpSpPr/>
          <p:nvPr/>
        </p:nvGrpSpPr>
        <p:grpSpPr>
          <a:xfrm>
            <a:off x="3706920" y="6083280"/>
            <a:ext cx="2517840" cy="671400"/>
            <a:chOff x="3706920" y="6083280"/>
            <a:chExt cx="2517840" cy="671400"/>
          </a:xfrm>
        </p:grpSpPr>
        <p:pic>
          <p:nvPicPr>
            <p:cNvPr id="337" name="Скругленный прямоугольник 11" descr=""/>
            <p:cNvPicPr/>
            <p:nvPr/>
          </p:nvPicPr>
          <p:blipFill>
            <a:blip r:embed="rId6"/>
            <a:stretch/>
          </p:blipFill>
          <p:spPr>
            <a:xfrm>
              <a:off x="3706920" y="6083280"/>
              <a:ext cx="251784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3773520" y="6205680"/>
              <a:ext cx="23241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3b1d15"/>
                  </a:solidFill>
                  <a:latin typeface="Georgia"/>
                </a:rPr>
                <a:t>Реестр расходных обязательств города Омска</a:t>
              </a:r>
              <a:endParaRPr b="0" lang="en-US" sz="11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339" name="Скругленный прямоугольник 12"/>
          <p:cNvGrpSpPr/>
          <p:nvPr/>
        </p:nvGrpSpPr>
        <p:grpSpPr>
          <a:xfrm>
            <a:off x="963720" y="4005360"/>
            <a:ext cx="2297160" cy="785880"/>
            <a:chOff x="963720" y="4005360"/>
            <a:chExt cx="2297160" cy="785880"/>
          </a:xfrm>
        </p:grpSpPr>
        <p:pic>
          <p:nvPicPr>
            <p:cNvPr id="340" name="Скругленный прямоугольник 12" descr=""/>
            <p:cNvPicPr/>
            <p:nvPr/>
          </p:nvPicPr>
          <p:blipFill>
            <a:blip r:embed="rId7"/>
            <a:stretch/>
          </p:blipFill>
          <p:spPr>
            <a:xfrm>
              <a:off x="963720" y="4005360"/>
              <a:ext cx="229716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1035000" y="4135320"/>
              <a:ext cx="209700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Georgia"/>
                </a:rPr>
                <a:t>Прогноз социально-экономического развития города Омска</a:t>
              </a:r>
              <a:endParaRPr b="0" lang="en-US" sz="11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342" name="Скругленный прямоугольник 35"/>
          <p:cNvGrpSpPr/>
          <p:nvPr/>
        </p:nvGrpSpPr>
        <p:grpSpPr>
          <a:xfrm>
            <a:off x="950760" y="4767120"/>
            <a:ext cx="2310120" cy="700200"/>
            <a:chOff x="950760" y="4767120"/>
            <a:chExt cx="2310120" cy="700200"/>
          </a:xfrm>
        </p:grpSpPr>
        <p:pic>
          <p:nvPicPr>
            <p:cNvPr id="343" name="Скругленный прямоугольник 35" descr=""/>
            <p:cNvPicPr/>
            <p:nvPr/>
          </p:nvPicPr>
          <p:blipFill>
            <a:blip r:embed="rId8"/>
            <a:stretch/>
          </p:blipFill>
          <p:spPr>
            <a:xfrm>
              <a:off x="950760" y="4767120"/>
              <a:ext cx="2310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1022400" y="4892760"/>
              <a:ext cx="2116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3b1d15"/>
                  </a:solidFill>
                  <a:latin typeface="Georgia"/>
                </a:rPr>
                <a:t>Целевые программы города Омска</a:t>
              </a:r>
              <a:endParaRPr b="0" lang="en-US" sz="11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345" name="Скругленный прямоугольник 37"/>
          <p:cNvGrpSpPr/>
          <p:nvPr/>
        </p:nvGrpSpPr>
        <p:grpSpPr>
          <a:xfrm>
            <a:off x="6821640" y="5510160"/>
            <a:ext cx="2292120" cy="854280"/>
            <a:chOff x="6821640" y="5510160"/>
            <a:chExt cx="2292120" cy="854280"/>
          </a:xfrm>
        </p:grpSpPr>
        <p:pic>
          <p:nvPicPr>
            <p:cNvPr id="346" name="Скругленный прямоугольник 37" descr=""/>
            <p:cNvPicPr/>
            <p:nvPr/>
          </p:nvPicPr>
          <p:blipFill>
            <a:blip r:embed="rId9"/>
            <a:stretch/>
          </p:blipFill>
          <p:spPr>
            <a:xfrm>
              <a:off x="6821640" y="5510160"/>
              <a:ext cx="22921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6894360" y="5695920"/>
              <a:ext cx="208944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3b1d15"/>
                  </a:solidFill>
                  <a:latin typeface="Georgia"/>
                </a:rPr>
                <a:t>Данные об исполнении бюджета города Омска в отчетном финансовом году</a:t>
              </a:r>
              <a:endParaRPr b="0" lang="en-US" sz="11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348" name="Скругленный прямоугольник 38"/>
          <p:cNvGrpSpPr/>
          <p:nvPr/>
        </p:nvGrpSpPr>
        <p:grpSpPr>
          <a:xfrm>
            <a:off x="6784920" y="4657680"/>
            <a:ext cx="2303640" cy="920880"/>
            <a:chOff x="6784920" y="4657680"/>
            <a:chExt cx="2303640" cy="920880"/>
          </a:xfrm>
        </p:grpSpPr>
        <p:pic>
          <p:nvPicPr>
            <p:cNvPr id="349" name="Скругленный прямоугольник 38" descr=""/>
            <p:cNvPicPr/>
            <p:nvPr/>
          </p:nvPicPr>
          <p:blipFill>
            <a:blip r:embed="rId10"/>
            <a:stretch/>
          </p:blipFill>
          <p:spPr>
            <a:xfrm>
              <a:off x="6784920" y="4657680"/>
              <a:ext cx="23036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6867360" y="4791240"/>
              <a:ext cx="208296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3b1d15"/>
                  </a:solidFill>
                  <a:latin typeface="Georgia"/>
                </a:rPr>
                <a:t>Оценка ожидаемого исполнения бюджета города Омска в текущем финансовом году</a:t>
              </a:r>
              <a:endParaRPr b="0" lang="en-US" sz="11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351" name="Скругленный прямоугольник 39"/>
          <p:cNvGrpSpPr/>
          <p:nvPr/>
        </p:nvGrpSpPr>
        <p:grpSpPr>
          <a:xfrm>
            <a:off x="981000" y="6102360"/>
            <a:ext cx="2579760" cy="719280"/>
            <a:chOff x="981000" y="6102360"/>
            <a:chExt cx="2579760" cy="719280"/>
          </a:xfrm>
        </p:grpSpPr>
        <p:pic>
          <p:nvPicPr>
            <p:cNvPr id="352" name="Скругленный прямоугольник 39" descr=""/>
            <p:cNvPicPr/>
            <p:nvPr/>
          </p:nvPicPr>
          <p:blipFill>
            <a:blip r:embed="rId11"/>
            <a:stretch/>
          </p:blipFill>
          <p:spPr>
            <a:xfrm>
              <a:off x="981000" y="6102360"/>
              <a:ext cx="25797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1052640" y="6248520"/>
              <a:ext cx="21049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3b1d15"/>
                  </a:solidFill>
                  <a:latin typeface="Georgia"/>
                </a:rPr>
                <a:t>Ставка рефинансирования                ЦБ РФ</a:t>
              </a:r>
              <a:endParaRPr b="0" lang="en-US" sz="11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354" name="Скругленный прямоугольник 40"/>
          <p:cNvGrpSpPr/>
          <p:nvPr/>
        </p:nvGrpSpPr>
        <p:grpSpPr>
          <a:xfrm>
            <a:off x="963720" y="5443560"/>
            <a:ext cx="2297160" cy="712800"/>
            <a:chOff x="963720" y="5443560"/>
            <a:chExt cx="2297160" cy="712800"/>
          </a:xfrm>
        </p:grpSpPr>
        <p:pic>
          <p:nvPicPr>
            <p:cNvPr id="355" name="Скругленный прямоугольник 40" descr=""/>
            <p:cNvPicPr/>
            <p:nvPr/>
          </p:nvPicPr>
          <p:blipFill>
            <a:blip r:embed="rId12"/>
            <a:stretch/>
          </p:blipFill>
          <p:spPr>
            <a:xfrm>
              <a:off x="963720" y="5443560"/>
              <a:ext cx="229716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1033560" y="5586480"/>
              <a:ext cx="21049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3b1d15"/>
                  </a:solidFill>
                  <a:latin typeface="Georgia"/>
                </a:rPr>
                <a:t>Объемы межбюджетных трансфертов из областного бюджета</a:t>
              </a:r>
              <a:endParaRPr b="0" lang="en-US" sz="11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357" name="Скругленный прямоугольник 41"/>
          <p:cNvGrpSpPr/>
          <p:nvPr/>
        </p:nvGrpSpPr>
        <p:grpSpPr>
          <a:xfrm>
            <a:off x="6838920" y="6327720"/>
            <a:ext cx="2249640" cy="397080"/>
            <a:chOff x="6838920" y="6327720"/>
            <a:chExt cx="2249640" cy="397080"/>
          </a:xfrm>
        </p:grpSpPr>
        <p:pic>
          <p:nvPicPr>
            <p:cNvPr id="358" name="Скругленный прямоугольник 41" descr=""/>
            <p:cNvPicPr/>
            <p:nvPr/>
          </p:nvPicPr>
          <p:blipFill>
            <a:blip r:embed="rId13"/>
            <a:stretch/>
          </p:blipFill>
          <p:spPr>
            <a:xfrm>
              <a:off x="6838920" y="6327720"/>
              <a:ext cx="224964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6892920" y="6438960"/>
              <a:ext cx="208440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3b1d15"/>
                  </a:solidFill>
                  <a:latin typeface="Georgia"/>
                </a:rPr>
                <a:t>Иные данные</a:t>
              </a:r>
              <a:endParaRPr b="0" lang="en-US" sz="11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360" name="Блок-схема: несколько документов 18"/>
          <p:cNvGrpSpPr/>
          <p:nvPr/>
        </p:nvGrpSpPr>
        <p:grpSpPr>
          <a:xfrm>
            <a:off x="4273560" y="4754520"/>
            <a:ext cx="1407960" cy="1103400"/>
            <a:chOff x="4273560" y="4754520"/>
            <a:chExt cx="1407960" cy="1103400"/>
          </a:xfrm>
        </p:grpSpPr>
        <p:pic>
          <p:nvPicPr>
            <p:cNvPr id="361" name="Блок-схема: несколько документов 18" descr=""/>
            <p:cNvPicPr/>
            <p:nvPr/>
          </p:nvPicPr>
          <p:blipFill>
            <a:blip r:embed="rId14"/>
            <a:stretch/>
          </p:blipFill>
          <p:spPr>
            <a:xfrm>
              <a:off x="4273560" y="4754520"/>
              <a:ext cx="140796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4292640" y="4956120"/>
              <a:ext cx="117792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b3e21"/>
                  </a:solidFill>
                  <a:latin typeface="Georgia"/>
                </a:rPr>
                <a:t>Проект бюджета города Омска</a:t>
              </a:r>
              <a:endParaRPr b="0" lang="en-US" sz="12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cxnSp>
        <p:nvCxnSpPr>
          <p:cNvPr id="363" name="Прямая со стрелкой 43"/>
          <p:cNvCxnSpPr>
            <a:endCxn id="331" idx="2"/>
          </p:cNvCxnSpPr>
          <p:nvPr/>
        </p:nvCxnSpPr>
        <p:spPr>
          <a:xfrm flipV="1">
            <a:off x="4976280" y="4449600"/>
            <a:ext cx="29520" cy="3034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headEnd len="med" type="triangle" w="med"/>
          </a:ln>
        </p:spPr>
      </p:cxnSp>
      <p:cxnSp>
        <p:nvCxnSpPr>
          <p:cNvPr id="364" name="Прямая со стрелкой 52"/>
          <p:cNvCxnSpPr/>
          <p:nvPr/>
        </p:nvCxnSpPr>
        <p:spPr>
          <a:xfrm flipV="1">
            <a:off x="4935240" y="5803200"/>
            <a:ext cx="1080" cy="37836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365" name="Прямая со стрелкой 59"/>
          <p:cNvCxnSpPr/>
          <p:nvPr/>
        </p:nvCxnSpPr>
        <p:spPr>
          <a:xfrm>
            <a:off x="5867280" y="5803560"/>
            <a:ext cx="1013760" cy="7498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headEnd len="med" type="triangle" w="med"/>
          </a:ln>
        </p:spPr>
      </p:cxnSp>
      <p:cxnSp>
        <p:nvCxnSpPr>
          <p:cNvPr id="366" name="Прямая со стрелкой 62"/>
          <p:cNvCxnSpPr/>
          <p:nvPr/>
        </p:nvCxnSpPr>
        <p:spPr>
          <a:xfrm>
            <a:off x="6124680" y="5536800"/>
            <a:ext cx="738720" cy="486360"/>
          </a:xfrm>
          <a:prstGeom prst="straightConnector1">
            <a:avLst/>
          </a:prstGeom>
          <a:ln w="25560">
            <a:solidFill>
              <a:srgbClr val="7f7f7f"/>
            </a:solidFill>
            <a:miter/>
            <a:headEnd len="med" type="triangle" w="med"/>
          </a:ln>
        </p:spPr>
      </p:cxnSp>
      <p:cxnSp>
        <p:nvCxnSpPr>
          <p:cNvPr id="367" name="Прямая со стрелкой 66"/>
          <p:cNvCxnSpPr/>
          <p:nvPr/>
        </p:nvCxnSpPr>
        <p:spPr>
          <a:xfrm flipV="1">
            <a:off x="6011640" y="5087160"/>
            <a:ext cx="819720" cy="219960"/>
          </a:xfrm>
          <a:prstGeom prst="straightConnector1">
            <a:avLst/>
          </a:prstGeom>
          <a:ln w="25560">
            <a:solidFill>
              <a:srgbClr val="7f7f7f"/>
            </a:solidFill>
            <a:miter/>
            <a:headEnd len="med" type="triangle" w="med"/>
          </a:ln>
        </p:spPr>
      </p:cxnSp>
      <p:cxnSp>
        <p:nvCxnSpPr>
          <p:cNvPr id="368" name="Прямая со стрелкой 70"/>
          <p:cNvCxnSpPr/>
          <p:nvPr/>
        </p:nvCxnSpPr>
        <p:spPr>
          <a:xfrm flipV="1">
            <a:off x="6012000" y="4349160"/>
            <a:ext cx="869040" cy="664200"/>
          </a:xfrm>
          <a:prstGeom prst="straightConnector1">
            <a:avLst/>
          </a:prstGeom>
          <a:ln w="25560">
            <a:solidFill>
              <a:srgbClr val="7f7f7f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Прямоугольник с двумя скругленными противолежащими углами 4"/>
          <p:cNvGrpSpPr/>
          <p:nvPr/>
        </p:nvGrpSpPr>
        <p:grpSpPr>
          <a:xfrm>
            <a:off x="865080" y="208080"/>
            <a:ext cx="8223480" cy="590400"/>
            <a:chOff x="865080" y="208080"/>
            <a:chExt cx="8223480" cy="590400"/>
          </a:xfrm>
        </p:grpSpPr>
        <p:pic>
          <p:nvPicPr>
            <p:cNvPr id="370" name="Прямоугольник с двумя скругленными противолежащими углами 4" descr=""/>
            <p:cNvPicPr/>
            <p:nvPr/>
          </p:nvPicPr>
          <p:blipFill>
            <a:blip r:embed="rId1"/>
            <a:stretch/>
          </p:blipFill>
          <p:spPr>
            <a:xfrm>
              <a:off x="865080" y="208080"/>
              <a:ext cx="822348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992160" y="309600"/>
              <a:ext cx="79693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Georgia"/>
                </a:rPr>
                <a:t>Составление проекта бюджета города Омска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aphicFrame>
        <p:nvGraphicFramePr>
          <p:cNvPr id="372" name="Object 3"/>
          <p:cNvGraphicFramePr/>
          <p:nvPr/>
        </p:nvGraphicFramePr>
        <p:xfrm>
          <a:off x="250920" y="73080"/>
          <a:ext cx="506160" cy="42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73080"/>
                    <a:ext cx="50616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TextBox 6"/>
          <p:cNvSpPr/>
          <p:nvPr/>
        </p:nvSpPr>
        <p:spPr>
          <a:xfrm>
            <a:off x="928800" y="0"/>
            <a:ext cx="37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75a8d"/>
                </a:solidFill>
                <a:latin typeface="Arial Black"/>
              </a:rPr>
              <a:t>Администрация города Омска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75" name="Скругленный прямоугольник 9"/>
          <p:cNvGrpSpPr/>
          <p:nvPr/>
        </p:nvGrpSpPr>
        <p:grpSpPr>
          <a:xfrm>
            <a:off x="2298600" y="2004840"/>
            <a:ext cx="6772320" cy="555840"/>
            <a:chOff x="2298600" y="2004840"/>
            <a:chExt cx="6772320" cy="555840"/>
          </a:xfrm>
        </p:grpSpPr>
        <p:pic>
          <p:nvPicPr>
            <p:cNvPr id="376" name="Скругленный прямоугольник 9" descr=""/>
            <p:cNvPicPr/>
            <p:nvPr/>
          </p:nvPicPr>
          <p:blipFill>
            <a:blip r:embed="rId4"/>
            <a:stretch/>
          </p:blipFill>
          <p:spPr>
            <a:xfrm>
              <a:off x="2298600" y="2004840"/>
              <a:ext cx="677232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2362320" y="2125800"/>
              <a:ext cx="65894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3b1d15"/>
                  </a:solidFill>
                  <a:latin typeface="Georgia"/>
                </a:rPr>
                <a:t>Осуществляется оценка потребности в оказании муниципальных услуг (выполнении работ), включенных в реестр муниципальных услуг (работ) города Омска</a:t>
              </a:r>
              <a:endParaRPr b="0" lang="en-US" sz="9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378" name="Скругленный прямоугольник 35"/>
          <p:cNvGrpSpPr/>
          <p:nvPr/>
        </p:nvGrpSpPr>
        <p:grpSpPr>
          <a:xfrm>
            <a:off x="2077920" y="4054320"/>
            <a:ext cx="3395880" cy="803520"/>
            <a:chOff x="2077920" y="4054320"/>
            <a:chExt cx="3395880" cy="803520"/>
          </a:xfrm>
        </p:grpSpPr>
        <p:pic>
          <p:nvPicPr>
            <p:cNvPr id="379" name="Скругленный прямоугольник 35" descr=""/>
            <p:cNvPicPr/>
            <p:nvPr/>
          </p:nvPicPr>
          <p:blipFill>
            <a:blip r:embed="rId5"/>
            <a:stretch/>
          </p:blipFill>
          <p:spPr>
            <a:xfrm>
              <a:off x="2077920" y="4054320"/>
              <a:ext cx="3395880" cy="8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2152800" y="4181400"/>
              <a:ext cx="319068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713204"/>
                  </a:solidFill>
                  <a:latin typeface="Georgia"/>
                </a:rPr>
                <a:t>Департамент финансов и контроля Администрации города Омска формирует и доводит предельные объемы (изменения предельных объемов) бюджетных ассигнований</a:t>
              </a:r>
              <a:endParaRPr b="0" lang="en-US" sz="9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381" name="Скругленный прямоугольник 41"/>
          <p:cNvGrpSpPr/>
          <p:nvPr/>
        </p:nvGrpSpPr>
        <p:grpSpPr>
          <a:xfrm>
            <a:off x="19080" y="5059440"/>
            <a:ext cx="2949480" cy="1798560"/>
            <a:chOff x="19080" y="5059440"/>
            <a:chExt cx="2949480" cy="1798560"/>
          </a:xfrm>
        </p:grpSpPr>
        <p:pic>
          <p:nvPicPr>
            <p:cNvPr id="382" name="Скругленный прямоугольник 41" descr=""/>
            <p:cNvPicPr/>
            <p:nvPr/>
          </p:nvPicPr>
          <p:blipFill>
            <a:blip r:embed="rId6"/>
            <a:stretch/>
          </p:blipFill>
          <p:spPr>
            <a:xfrm>
              <a:off x="19080" y="5059440"/>
              <a:ext cx="29494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142920" y="5238720"/>
              <a:ext cx="2647800" cy="14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713204"/>
                  </a:solidFill>
                  <a:latin typeface="Georgia"/>
                </a:rPr>
                <a:t>Главные распорядители бюджетных средств распределяют </a:t>
              </a:r>
              <a:r>
                <a:rPr b="1" lang="ru-RU" sz="1000" spc="-1" strike="noStrike">
                  <a:solidFill>
                    <a:srgbClr val="713204"/>
                  </a:solidFill>
                  <a:latin typeface="Georgia"/>
                </a:rPr>
                <a:t>предельные объемы бюджетных ассигнований (изменения предельных объемов бюджетных ассигнований) по действующим и принимаемым расходным обязательствам города Омска по кодам классификации расходов</a:t>
              </a:r>
              <a:endParaRPr b="0" lang="en-US" sz="10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384" name="Скругленный прямоугольник 11"/>
          <p:cNvGrpSpPr/>
          <p:nvPr/>
        </p:nvGrpSpPr>
        <p:grpSpPr>
          <a:xfrm>
            <a:off x="5827680" y="2554200"/>
            <a:ext cx="3243240" cy="1268640"/>
            <a:chOff x="5827680" y="2554200"/>
            <a:chExt cx="3243240" cy="1268640"/>
          </a:xfrm>
        </p:grpSpPr>
        <p:pic>
          <p:nvPicPr>
            <p:cNvPr id="385" name="Скругленный прямоугольник 11" descr=""/>
            <p:cNvPicPr/>
            <p:nvPr/>
          </p:nvPicPr>
          <p:blipFill>
            <a:blip r:embed="rId7"/>
            <a:stretch/>
          </p:blipFill>
          <p:spPr>
            <a:xfrm>
              <a:off x="5827680" y="2554200"/>
              <a:ext cx="3243240" cy="12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5923080" y="2706840"/>
              <a:ext cx="2993760" cy="10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713204"/>
                  </a:solidFill>
                  <a:latin typeface="Georgia"/>
                </a:rPr>
                <a:t>В соответствии с решением Мэра города Омска департамент финансов и контроля Администрации города Омска совместно с департаментом городской экономической политики Администрации города Омска при необходимости уточняет основные характеристики проекта бюджета</a:t>
              </a:r>
              <a:endParaRPr b="0" lang="en-US" sz="9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387" name="Скругленный прямоугольник 37"/>
          <p:cNvGrpSpPr/>
          <p:nvPr/>
        </p:nvGrpSpPr>
        <p:grpSpPr>
          <a:xfrm>
            <a:off x="2084400" y="2541600"/>
            <a:ext cx="3670200" cy="1579680"/>
            <a:chOff x="2084400" y="2541600"/>
            <a:chExt cx="3670200" cy="1579680"/>
          </a:xfrm>
        </p:grpSpPr>
        <p:pic>
          <p:nvPicPr>
            <p:cNvPr id="388" name="Скругленный прямоугольник 37" descr=""/>
            <p:cNvPicPr/>
            <p:nvPr/>
          </p:nvPicPr>
          <p:blipFill>
            <a:blip r:embed="rId8"/>
            <a:stretch/>
          </p:blipFill>
          <p:spPr>
            <a:xfrm>
              <a:off x="2084400" y="2541600"/>
              <a:ext cx="3670200" cy="15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2198520" y="2717640"/>
              <a:ext cx="3389400" cy="12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713204"/>
                  </a:solidFill>
                  <a:latin typeface="Georgia"/>
                </a:rPr>
                <a:t>Формируются основные характеристики проекта бюджета в целях определения общего объема финансовых ресурсов, которые могут быть направлены на исполнение расходных обязательств города Омска в очередном финансовом году и в плановом периоде.</a:t>
              </a:r>
              <a:endParaRPr b="0" lang="en-US" sz="900" spc="-1" strike="noStrike">
                <a:solidFill>
                  <a:srgbClr val="000000"/>
                </a:solidFill>
                <a:latin typeface="Corbe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713204"/>
                  </a:solidFill>
                  <a:latin typeface="Georgia"/>
                </a:rPr>
                <a:t>Основные характеристики проекта бюджета представляются департаментом финансов и контроля Администрации города Омска на рассмотрение Мэру города Омска</a:t>
              </a:r>
              <a:endParaRPr b="0" lang="en-US" sz="9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cxnSp>
        <p:nvCxnSpPr>
          <p:cNvPr id="390" name="Прямая со стрелкой 43"/>
          <p:cNvCxnSpPr/>
          <p:nvPr/>
        </p:nvCxnSpPr>
        <p:spPr>
          <a:xfrm flipV="1">
            <a:off x="1474560" y="2049120"/>
            <a:ext cx="1080" cy="580320"/>
          </a:xfrm>
          <a:prstGeom prst="straightConnector1">
            <a:avLst/>
          </a:prstGeom>
          <a:ln w="15840">
            <a:solidFill>
              <a:srgbClr val="713204"/>
            </a:solidFill>
            <a:miter/>
            <a:headEnd len="med" type="triangle" w="med"/>
          </a:ln>
        </p:spPr>
      </p:cxnSp>
      <p:cxnSp>
        <p:nvCxnSpPr>
          <p:cNvPr id="391" name="Прямая со стрелкой 25"/>
          <p:cNvCxnSpPr/>
          <p:nvPr/>
        </p:nvCxnSpPr>
        <p:spPr>
          <a:xfrm flipV="1">
            <a:off x="4871520" y="1126440"/>
            <a:ext cx="1080" cy="173880"/>
          </a:xfrm>
          <a:prstGeom prst="straightConnector1">
            <a:avLst/>
          </a:prstGeom>
          <a:ln w="15840">
            <a:solidFill>
              <a:srgbClr val="713204"/>
            </a:solidFill>
            <a:miter/>
          </a:ln>
        </p:spPr>
      </p:cxnSp>
      <p:grpSp>
        <p:nvGrpSpPr>
          <p:cNvPr id="392" name="Прямоугольник с двумя скругленными противолежащими углами 2"/>
          <p:cNvGrpSpPr/>
          <p:nvPr/>
        </p:nvGrpSpPr>
        <p:grpSpPr>
          <a:xfrm>
            <a:off x="1457280" y="633240"/>
            <a:ext cx="6973920" cy="598680"/>
            <a:chOff x="1457280" y="633240"/>
            <a:chExt cx="6973920" cy="598680"/>
          </a:xfrm>
        </p:grpSpPr>
        <p:pic>
          <p:nvPicPr>
            <p:cNvPr id="393" name="Прямоугольник с двумя скругленными противолежащими углами 2" descr=""/>
            <p:cNvPicPr/>
            <p:nvPr/>
          </p:nvPicPr>
          <p:blipFill>
            <a:blip r:embed="rId9"/>
            <a:stretch/>
          </p:blipFill>
          <p:spPr>
            <a:xfrm>
              <a:off x="1457280" y="633240"/>
              <a:ext cx="697392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1519200" y="758880"/>
              <a:ext cx="679608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b3e21"/>
                  </a:solidFill>
                  <a:latin typeface="Georgia"/>
                </a:rPr>
                <a:t>Формирование проекта бюджета города Омска на очередной финансовый год и плановый период</a:t>
              </a:r>
              <a:endParaRPr b="0" lang="en-US" sz="12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cxnSp>
        <p:nvCxnSpPr>
          <p:cNvPr id="395" name="Прямая со стрелкой 34"/>
          <p:cNvCxnSpPr/>
          <p:nvPr/>
        </p:nvCxnSpPr>
        <p:spPr>
          <a:xfrm flipV="1">
            <a:off x="468000" y="1299600"/>
            <a:ext cx="1080" cy="3145320"/>
          </a:xfrm>
          <a:prstGeom prst="straightConnector1">
            <a:avLst/>
          </a:prstGeom>
          <a:ln w="15840">
            <a:solidFill>
              <a:srgbClr val="713204"/>
            </a:solidFill>
            <a:miter/>
          </a:ln>
        </p:spPr>
      </p:cxnSp>
      <p:grpSp>
        <p:nvGrpSpPr>
          <p:cNvPr id="396" name="Прямоугольник с двумя скругленными противолежащими углами 42"/>
          <p:cNvGrpSpPr/>
          <p:nvPr/>
        </p:nvGrpSpPr>
        <p:grpSpPr>
          <a:xfrm>
            <a:off x="938160" y="4011480"/>
            <a:ext cx="1103400" cy="762120"/>
            <a:chOff x="938160" y="4011480"/>
            <a:chExt cx="1103400" cy="762120"/>
          </a:xfrm>
        </p:grpSpPr>
        <p:pic>
          <p:nvPicPr>
            <p:cNvPr id="397" name="Прямоугольник с двумя скругленными противолежащими углами 42" descr=""/>
            <p:cNvPicPr/>
            <p:nvPr/>
          </p:nvPicPr>
          <p:blipFill>
            <a:blip r:embed="rId10"/>
            <a:stretch/>
          </p:blipFill>
          <p:spPr>
            <a:xfrm>
              <a:off x="938160" y="4011480"/>
              <a:ext cx="110340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1014480" y="4140360"/>
              <a:ext cx="90468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b3e21"/>
                  </a:solidFill>
                  <a:latin typeface="Georgia"/>
                </a:rPr>
                <a:t>Третий этап</a:t>
              </a:r>
              <a:endParaRPr b="0" lang="en-US" sz="12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399" name="Прямоугольник с двумя скругленными противолежащими углами 44"/>
          <p:cNvGrpSpPr/>
          <p:nvPr/>
        </p:nvGrpSpPr>
        <p:grpSpPr>
          <a:xfrm>
            <a:off x="944640" y="1420920"/>
            <a:ext cx="1109520" cy="706320"/>
            <a:chOff x="944640" y="1420920"/>
            <a:chExt cx="1109520" cy="706320"/>
          </a:xfrm>
        </p:grpSpPr>
        <p:pic>
          <p:nvPicPr>
            <p:cNvPr id="400" name="Прямоугольник с двумя скругленными противолежащими углами 44" descr=""/>
            <p:cNvPicPr/>
            <p:nvPr/>
          </p:nvPicPr>
          <p:blipFill>
            <a:blip r:embed="rId11"/>
            <a:stretch/>
          </p:blipFill>
          <p:spPr>
            <a:xfrm>
              <a:off x="944640" y="1420920"/>
              <a:ext cx="110952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1017720" y="1546200"/>
              <a:ext cx="920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b3e21"/>
                  </a:solidFill>
                  <a:latin typeface="Georgia"/>
                </a:rPr>
                <a:t>Первый этап</a:t>
              </a:r>
              <a:endParaRPr b="0" lang="en-US" sz="12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402" name="Прямоугольник с двумя скругленными противолежащими углами 45"/>
          <p:cNvGrpSpPr/>
          <p:nvPr/>
        </p:nvGrpSpPr>
        <p:grpSpPr>
          <a:xfrm>
            <a:off x="933480" y="2530440"/>
            <a:ext cx="1114560" cy="719280"/>
            <a:chOff x="933480" y="2530440"/>
            <a:chExt cx="1114560" cy="719280"/>
          </a:xfrm>
        </p:grpSpPr>
        <p:pic>
          <p:nvPicPr>
            <p:cNvPr id="403" name="Прямоугольник с двумя скругленными противолежащими углами 45" descr=""/>
            <p:cNvPicPr/>
            <p:nvPr/>
          </p:nvPicPr>
          <p:blipFill>
            <a:blip r:embed="rId12"/>
            <a:stretch/>
          </p:blipFill>
          <p:spPr>
            <a:xfrm>
              <a:off x="933480" y="2530440"/>
              <a:ext cx="11145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1003320" y="2657520"/>
              <a:ext cx="927000" cy="5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b3e21"/>
                  </a:solidFill>
                  <a:latin typeface="Georgia"/>
                </a:rPr>
                <a:t>Второй этап</a:t>
              </a:r>
              <a:endParaRPr b="0" lang="en-US" sz="12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cxnSp>
        <p:nvCxnSpPr>
          <p:cNvPr id="405" name="Прямая со стрелкой 46"/>
          <p:cNvCxnSpPr/>
          <p:nvPr/>
        </p:nvCxnSpPr>
        <p:spPr>
          <a:xfrm flipV="1">
            <a:off x="1466640" y="3214440"/>
            <a:ext cx="1080" cy="862560"/>
          </a:xfrm>
          <a:prstGeom prst="straightConnector1">
            <a:avLst/>
          </a:prstGeom>
          <a:ln w="15840">
            <a:solidFill>
              <a:srgbClr val="713204"/>
            </a:solidFill>
            <a:miter/>
            <a:headEnd len="med" type="triangle" w="med"/>
          </a:ln>
        </p:spPr>
      </p:cxnSp>
      <p:cxnSp>
        <p:nvCxnSpPr>
          <p:cNvPr id="406" name="Прямая со стрелкой 51"/>
          <p:cNvCxnSpPr/>
          <p:nvPr/>
        </p:nvCxnSpPr>
        <p:spPr>
          <a:xfrm>
            <a:off x="468360" y="4444560"/>
            <a:ext cx="529200" cy="1080"/>
          </a:xfrm>
          <a:prstGeom prst="straightConnector1">
            <a:avLst/>
          </a:prstGeom>
          <a:ln w="15840">
            <a:solidFill>
              <a:srgbClr val="713204"/>
            </a:solidFill>
            <a:miter/>
          </a:ln>
        </p:spPr>
      </p:cxnSp>
      <p:cxnSp>
        <p:nvCxnSpPr>
          <p:cNvPr id="407" name="Прямая со стрелкой 57"/>
          <p:cNvCxnSpPr/>
          <p:nvPr/>
        </p:nvCxnSpPr>
        <p:spPr>
          <a:xfrm>
            <a:off x="468360" y="2920680"/>
            <a:ext cx="529200" cy="1080"/>
          </a:xfrm>
          <a:prstGeom prst="straightConnector1">
            <a:avLst/>
          </a:prstGeom>
          <a:ln w="15840">
            <a:solidFill>
              <a:srgbClr val="713204"/>
            </a:solidFill>
            <a:miter/>
          </a:ln>
        </p:spPr>
      </p:cxnSp>
      <p:cxnSp>
        <p:nvCxnSpPr>
          <p:cNvPr id="408" name="Прямая со стрелкой 58"/>
          <p:cNvCxnSpPr/>
          <p:nvPr/>
        </p:nvCxnSpPr>
        <p:spPr>
          <a:xfrm>
            <a:off x="468360" y="1749240"/>
            <a:ext cx="529200" cy="1080"/>
          </a:xfrm>
          <a:prstGeom prst="straightConnector1">
            <a:avLst/>
          </a:prstGeom>
          <a:ln w="15840">
            <a:solidFill>
              <a:srgbClr val="713204"/>
            </a:solidFill>
            <a:miter/>
          </a:ln>
        </p:spPr>
      </p:cxnSp>
      <p:sp>
        <p:nvSpPr>
          <p:cNvPr id="409" name="Прямая соединительная линия 63"/>
          <p:cNvSpPr/>
          <p:nvPr/>
        </p:nvSpPr>
        <p:spPr>
          <a:xfrm>
            <a:off x="468360" y="1300320"/>
            <a:ext cx="4403520" cy="0"/>
          </a:xfrm>
          <a:prstGeom prst="line">
            <a:avLst/>
          </a:prstGeom>
          <a:ln w="15840">
            <a:solidFill>
              <a:srgbClr val="713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10" name="Скругленный прямоугольник 7"/>
          <p:cNvGrpSpPr/>
          <p:nvPr/>
        </p:nvGrpSpPr>
        <p:grpSpPr>
          <a:xfrm>
            <a:off x="2292480" y="1231920"/>
            <a:ext cx="6778440" cy="517680"/>
            <a:chOff x="2292480" y="1231920"/>
            <a:chExt cx="6778440" cy="517680"/>
          </a:xfrm>
        </p:grpSpPr>
        <p:pic>
          <p:nvPicPr>
            <p:cNvPr id="411" name="Скругленный прямоугольник 7" descr=""/>
            <p:cNvPicPr/>
            <p:nvPr/>
          </p:nvPicPr>
          <p:blipFill>
            <a:blip r:embed="rId13"/>
            <a:stretch/>
          </p:blipFill>
          <p:spPr>
            <a:xfrm>
              <a:off x="2292480" y="1231920"/>
              <a:ext cx="677844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2354400" y="1346040"/>
              <a:ext cx="659916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3b1d15"/>
                  </a:solidFill>
                  <a:latin typeface="Georgia"/>
                </a:rPr>
                <a:t>Разрабатываются основные показатели социально-экономического развития города Омска (сценарные условия)</a:t>
              </a:r>
              <a:endParaRPr b="0" lang="en-US" sz="9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413" name="Скругленный прямоугольник 38"/>
          <p:cNvGrpSpPr/>
          <p:nvPr/>
        </p:nvGrpSpPr>
        <p:grpSpPr>
          <a:xfrm>
            <a:off x="2286000" y="1670040"/>
            <a:ext cx="6784920" cy="426960"/>
            <a:chOff x="2286000" y="1670040"/>
            <a:chExt cx="6784920" cy="426960"/>
          </a:xfrm>
        </p:grpSpPr>
        <p:pic>
          <p:nvPicPr>
            <p:cNvPr id="414" name="Скругленный прямоугольник 38" descr=""/>
            <p:cNvPicPr/>
            <p:nvPr/>
          </p:nvPicPr>
          <p:blipFill>
            <a:blip r:embed="rId14"/>
            <a:stretch/>
          </p:blipFill>
          <p:spPr>
            <a:xfrm>
              <a:off x="2286000" y="1670040"/>
              <a:ext cx="678492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2340000" y="1782720"/>
              <a:ext cx="66182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3b1d15"/>
                  </a:solidFill>
                  <a:latin typeface="Georgia"/>
                </a:rPr>
                <a:t>Разрабатывается проект основных направлений бюджетной и налоговой политики города Омска</a:t>
              </a:r>
              <a:endParaRPr b="0" lang="en-US" sz="9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cxnSp>
        <p:nvCxnSpPr>
          <p:cNvPr id="416" name="Прямая со стрелкой 68"/>
          <p:cNvCxnSpPr/>
          <p:nvPr/>
        </p:nvCxnSpPr>
        <p:spPr>
          <a:xfrm>
            <a:off x="1976040" y="1775880"/>
            <a:ext cx="144720" cy="1080"/>
          </a:xfrm>
          <a:prstGeom prst="straightConnector1">
            <a:avLst/>
          </a:prstGeom>
          <a:ln w="15840">
            <a:solidFill>
              <a:srgbClr val="713204"/>
            </a:solidFill>
            <a:miter/>
          </a:ln>
        </p:spPr>
      </p:cxnSp>
      <p:cxnSp>
        <p:nvCxnSpPr>
          <p:cNvPr id="417" name="Прямая со стрелкой 71"/>
          <p:cNvCxnSpPr/>
          <p:nvPr/>
        </p:nvCxnSpPr>
        <p:spPr>
          <a:xfrm flipV="1">
            <a:off x="2112480" y="1517040"/>
            <a:ext cx="1080" cy="826200"/>
          </a:xfrm>
          <a:prstGeom prst="straightConnector1">
            <a:avLst/>
          </a:prstGeom>
          <a:ln w="15840">
            <a:solidFill>
              <a:srgbClr val="713204"/>
            </a:solidFill>
            <a:miter/>
          </a:ln>
        </p:spPr>
      </p:cxnSp>
      <p:cxnSp>
        <p:nvCxnSpPr>
          <p:cNvPr id="418" name="Прямая со стрелкой 74"/>
          <p:cNvCxnSpPr/>
          <p:nvPr/>
        </p:nvCxnSpPr>
        <p:spPr>
          <a:xfrm>
            <a:off x="2120760" y="1517400"/>
            <a:ext cx="223200" cy="1080"/>
          </a:xfrm>
          <a:prstGeom prst="straightConnector1">
            <a:avLst/>
          </a:prstGeom>
          <a:ln w="15840">
            <a:solidFill>
              <a:srgbClr val="713204"/>
            </a:solidFill>
            <a:miter/>
            <a:tailEnd len="med" type="triangle" w="med"/>
          </a:ln>
        </p:spPr>
      </p:cxnSp>
      <p:cxnSp>
        <p:nvCxnSpPr>
          <p:cNvPr id="419" name="Прямая со стрелкой 76"/>
          <p:cNvCxnSpPr/>
          <p:nvPr/>
        </p:nvCxnSpPr>
        <p:spPr>
          <a:xfrm>
            <a:off x="2120760" y="2342880"/>
            <a:ext cx="208800" cy="1080"/>
          </a:xfrm>
          <a:prstGeom prst="straightConnector1">
            <a:avLst/>
          </a:prstGeom>
          <a:ln w="15840">
            <a:solidFill>
              <a:srgbClr val="713204"/>
            </a:solidFill>
            <a:miter/>
            <a:tailEnd len="med" type="triangle" w="med"/>
          </a:ln>
        </p:spPr>
      </p:cxnSp>
      <p:cxnSp>
        <p:nvCxnSpPr>
          <p:cNvPr id="420" name="Прямая со стрелкой 84"/>
          <p:cNvCxnSpPr/>
          <p:nvPr/>
        </p:nvCxnSpPr>
        <p:spPr>
          <a:xfrm>
            <a:off x="2112840" y="1910880"/>
            <a:ext cx="216720" cy="1080"/>
          </a:xfrm>
          <a:prstGeom prst="straightConnector1">
            <a:avLst/>
          </a:prstGeom>
          <a:ln w="15840">
            <a:solidFill>
              <a:srgbClr val="713204"/>
            </a:solidFill>
            <a:miter/>
            <a:tailEnd len="med" type="triangle" w="med"/>
          </a:ln>
        </p:spPr>
      </p:cxnSp>
      <p:cxnSp>
        <p:nvCxnSpPr>
          <p:cNvPr id="421" name="Прямая со стрелкой 107"/>
          <p:cNvCxnSpPr/>
          <p:nvPr/>
        </p:nvCxnSpPr>
        <p:spPr>
          <a:xfrm>
            <a:off x="1959120" y="2936520"/>
            <a:ext cx="173520" cy="1080"/>
          </a:xfrm>
          <a:prstGeom prst="straightConnector1">
            <a:avLst/>
          </a:prstGeom>
          <a:ln w="15840">
            <a:solidFill>
              <a:srgbClr val="713204"/>
            </a:solidFill>
            <a:miter/>
            <a:tailEnd len="med" type="triangle" w="med"/>
          </a:ln>
        </p:spPr>
      </p:cxnSp>
      <p:cxnSp>
        <p:nvCxnSpPr>
          <p:cNvPr id="422" name="Прямая со стрелкой 110"/>
          <p:cNvCxnSpPr/>
          <p:nvPr/>
        </p:nvCxnSpPr>
        <p:spPr>
          <a:xfrm>
            <a:off x="5654520" y="2936520"/>
            <a:ext cx="224640" cy="1080"/>
          </a:xfrm>
          <a:prstGeom prst="straightConnector1">
            <a:avLst/>
          </a:prstGeom>
          <a:ln w="15840">
            <a:solidFill>
              <a:srgbClr val="713204"/>
            </a:solidFill>
            <a:miter/>
            <a:tailEnd len="med" type="triangle" w="med"/>
          </a:ln>
        </p:spPr>
      </p:cxnSp>
      <p:grpSp>
        <p:nvGrpSpPr>
          <p:cNvPr id="423" name="Скругленный прямоугольник 117"/>
          <p:cNvGrpSpPr/>
          <p:nvPr/>
        </p:nvGrpSpPr>
        <p:grpSpPr>
          <a:xfrm>
            <a:off x="3176640" y="5022720"/>
            <a:ext cx="3400200" cy="1835280"/>
            <a:chOff x="3176640" y="5022720"/>
            <a:chExt cx="3400200" cy="1835280"/>
          </a:xfrm>
        </p:grpSpPr>
        <p:pic>
          <p:nvPicPr>
            <p:cNvPr id="424" name="Скругленный прямоугольник 117" descr=""/>
            <p:cNvPicPr/>
            <p:nvPr/>
          </p:nvPicPr>
          <p:blipFill>
            <a:blip r:embed="rId15"/>
            <a:stretch/>
          </p:blipFill>
          <p:spPr>
            <a:xfrm>
              <a:off x="3176640" y="5022720"/>
              <a:ext cx="340020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3297240" y="5219640"/>
              <a:ext cx="280044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713204"/>
                  </a:solidFill>
                  <a:latin typeface="Georgia"/>
                </a:rPr>
                <a:t>Департамент  городской экономической политики Администрации города Омска:                 - формирует проект адресной инвестиционной программы города Омска в соответствии с предельными объемами расходов инвестиционного характера, включаемых в адресную инвестиционную программу города Омска;</a:t>
              </a:r>
              <a:endParaRPr b="0" lang="en-US" sz="900" spc="-1" strike="noStrike">
                <a:solidFill>
                  <a:srgbClr val="000000"/>
                </a:solidFill>
                <a:latin typeface="Corbe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713204"/>
                  </a:solidFill>
                  <a:latin typeface="Georgia"/>
                </a:rPr>
                <a:t>- осуществляет разработку прогноза социально-экономического развития города Омска</a:t>
              </a:r>
              <a:endParaRPr b="0" lang="en-US" sz="9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426" name="Скругленный прямоугольник 118"/>
          <p:cNvGrpSpPr/>
          <p:nvPr/>
        </p:nvGrpSpPr>
        <p:grpSpPr>
          <a:xfrm>
            <a:off x="6188040" y="4011480"/>
            <a:ext cx="2919600" cy="1694160"/>
            <a:chOff x="6188040" y="4011480"/>
            <a:chExt cx="2919600" cy="1694160"/>
          </a:xfrm>
        </p:grpSpPr>
        <p:pic>
          <p:nvPicPr>
            <p:cNvPr id="427" name="Скругленный прямоугольник 118" descr=""/>
            <p:cNvPicPr/>
            <p:nvPr/>
          </p:nvPicPr>
          <p:blipFill>
            <a:blip r:embed="rId16"/>
            <a:stretch/>
          </p:blipFill>
          <p:spPr>
            <a:xfrm>
              <a:off x="6188040" y="4011480"/>
              <a:ext cx="2919600" cy="169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6302520" y="4222800"/>
              <a:ext cx="263340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713204"/>
                  </a:solidFill>
                  <a:latin typeface="Georgia"/>
                </a:rPr>
                <a:t>Департамент финансов и контроля Администрации города Омска формирует проект Решения Омского городского Совета о бюджете, а также документы и материалы, представляемые в Омский городской Совет одновременно с проектом Решения Омского городского Совета о бюджете</a:t>
              </a:r>
              <a:endParaRPr b="0" lang="en-US" sz="10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cxnSp>
        <p:nvCxnSpPr>
          <p:cNvPr id="429" name="Прямая со стрелкой 27"/>
          <p:cNvCxnSpPr/>
          <p:nvPr/>
        </p:nvCxnSpPr>
        <p:spPr>
          <a:xfrm flipH="1">
            <a:off x="2102760" y="4803480"/>
            <a:ext cx="324360" cy="324360"/>
          </a:xfrm>
          <a:prstGeom prst="straightConnector1">
            <a:avLst/>
          </a:prstGeom>
          <a:ln w="15840">
            <a:solidFill>
              <a:srgbClr val="713204"/>
            </a:solidFill>
            <a:miter/>
            <a:tailEnd len="med" type="triangle" w="med"/>
          </a:ln>
        </p:spPr>
      </p:cxnSp>
      <p:cxnSp>
        <p:nvCxnSpPr>
          <p:cNvPr id="430" name="Прямая со стрелкой 52"/>
          <p:cNvCxnSpPr/>
          <p:nvPr/>
        </p:nvCxnSpPr>
        <p:spPr>
          <a:xfrm>
            <a:off x="5105160" y="4813200"/>
            <a:ext cx="332280" cy="324720"/>
          </a:xfrm>
          <a:prstGeom prst="straightConnector1">
            <a:avLst/>
          </a:prstGeom>
          <a:ln w="15840">
            <a:solidFill>
              <a:srgbClr val="713204"/>
            </a:solidFill>
            <a:miter/>
            <a:tailEnd len="med" type="triangle" w="med"/>
          </a:ln>
        </p:spPr>
      </p:cxnSp>
      <p:cxnSp>
        <p:nvCxnSpPr>
          <p:cNvPr id="431" name="Прямая со стрелкой 54"/>
          <p:cNvCxnSpPr/>
          <p:nvPr/>
        </p:nvCxnSpPr>
        <p:spPr>
          <a:xfrm flipH="1">
            <a:off x="2390400" y="4829040"/>
            <a:ext cx="324720" cy="324720"/>
          </a:xfrm>
          <a:prstGeom prst="straightConnector1">
            <a:avLst/>
          </a:prstGeom>
          <a:ln w="15840">
            <a:solidFill>
              <a:srgbClr val="713204"/>
            </a:solidFill>
            <a:prstDash val="dash"/>
            <a:miter/>
            <a:headEnd len="med" type="triangle" w="med"/>
          </a:ln>
        </p:spPr>
      </p:cxnSp>
      <p:cxnSp>
        <p:nvCxnSpPr>
          <p:cNvPr id="432" name="Прямая со стрелкой 55"/>
          <p:cNvCxnSpPr/>
          <p:nvPr/>
        </p:nvCxnSpPr>
        <p:spPr>
          <a:xfrm>
            <a:off x="4844880" y="4813200"/>
            <a:ext cx="331200" cy="324720"/>
          </a:xfrm>
          <a:prstGeom prst="straightConnector1">
            <a:avLst/>
          </a:prstGeom>
          <a:ln w="15840">
            <a:solidFill>
              <a:srgbClr val="713204"/>
            </a:solidFill>
            <a:prstDash val="dash"/>
            <a:miter/>
            <a:headEnd len="med" type="triangle" w="med"/>
          </a:ln>
        </p:spPr>
      </p:cxnSp>
      <p:cxnSp>
        <p:nvCxnSpPr>
          <p:cNvPr id="433" name="Прямая со стрелкой 56"/>
          <p:cNvCxnSpPr/>
          <p:nvPr/>
        </p:nvCxnSpPr>
        <p:spPr>
          <a:xfrm>
            <a:off x="1959120" y="4422240"/>
            <a:ext cx="173520" cy="1080"/>
          </a:xfrm>
          <a:prstGeom prst="straightConnector1">
            <a:avLst/>
          </a:prstGeom>
          <a:ln w="15840">
            <a:solidFill>
              <a:srgbClr val="713204"/>
            </a:solidFill>
            <a:miter/>
            <a:tailEnd len="med" type="triangle" w="med"/>
          </a:ln>
        </p:spPr>
      </p:cxnSp>
      <p:grpSp>
        <p:nvGrpSpPr>
          <p:cNvPr id="434" name="Штриховая стрелка вправо 29"/>
          <p:cNvGrpSpPr/>
          <p:nvPr/>
        </p:nvGrpSpPr>
        <p:grpSpPr>
          <a:xfrm>
            <a:off x="5430960" y="4230720"/>
            <a:ext cx="757080" cy="353880"/>
            <a:chOff x="5430960" y="4230720"/>
            <a:chExt cx="757080" cy="353880"/>
          </a:xfrm>
        </p:grpSpPr>
        <p:pic>
          <p:nvPicPr>
            <p:cNvPr id="435" name="Штриховая стрелка вправо 29" descr=""/>
            <p:cNvPicPr/>
            <p:nvPr/>
          </p:nvPicPr>
          <p:blipFill>
            <a:blip r:embed="rId17"/>
            <a:stretch/>
          </p:blipFill>
          <p:spPr>
            <a:xfrm>
              <a:off x="5430960" y="4230720"/>
              <a:ext cx="75708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5492880" y="4324320"/>
              <a:ext cx="60300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Прямоугольник с двумя скругленными противолежащими углами 4"/>
          <p:cNvGrpSpPr/>
          <p:nvPr/>
        </p:nvGrpSpPr>
        <p:grpSpPr>
          <a:xfrm>
            <a:off x="865080" y="208080"/>
            <a:ext cx="8223480" cy="590400"/>
            <a:chOff x="865080" y="208080"/>
            <a:chExt cx="8223480" cy="590400"/>
          </a:xfrm>
        </p:grpSpPr>
        <p:pic>
          <p:nvPicPr>
            <p:cNvPr id="438" name="Прямоугольник с двумя скругленными противолежащими углами 4" descr=""/>
            <p:cNvPicPr/>
            <p:nvPr/>
          </p:nvPicPr>
          <p:blipFill>
            <a:blip r:embed="rId1"/>
            <a:stretch/>
          </p:blipFill>
          <p:spPr>
            <a:xfrm>
              <a:off x="865080" y="208080"/>
              <a:ext cx="822348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992160" y="309600"/>
              <a:ext cx="79693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Georgia"/>
                </a:rPr>
                <a:t>Составление проекта бюджета города Омска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aphicFrame>
        <p:nvGraphicFramePr>
          <p:cNvPr id="440" name="Object 142"/>
          <p:cNvGraphicFramePr/>
          <p:nvPr/>
        </p:nvGraphicFramePr>
        <p:xfrm>
          <a:off x="250920" y="73080"/>
          <a:ext cx="506160" cy="42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1" name="Object 14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73080"/>
                    <a:ext cx="50616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TextBox 6"/>
          <p:cNvSpPr/>
          <p:nvPr/>
        </p:nvSpPr>
        <p:spPr>
          <a:xfrm>
            <a:off x="928800" y="0"/>
            <a:ext cx="37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75a8d"/>
                </a:solidFill>
                <a:latin typeface="Arial Black"/>
              </a:rPr>
              <a:t>Администрация города Омска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43" name="Группа 3"/>
          <p:cNvGrpSpPr/>
          <p:nvPr/>
        </p:nvGrpSpPr>
        <p:grpSpPr>
          <a:xfrm>
            <a:off x="1265400" y="928800"/>
            <a:ext cx="7183440" cy="2257200"/>
            <a:chOff x="1265400" y="928800"/>
            <a:chExt cx="7183440" cy="2257200"/>
          </a:xfrm>
        </p:grpSpPr>
        <p:grpSp>
          <p:nvGrpSpPr>
            <p:cNvPr id="444" name="Прямоугольник с двумя скругленными противолежащими углами 44"/>
            <p:cNvGrpSpPr/>
            <p:nvPr/>
          </p:nvGrpSpPr>
          <p:grpSpPr>
            <a:xfrm>
              <a:off x="1265400" y="1773000"/>
              <a:ext cx="1961640" cy="1378440"/>
              <a:chOff x="1265400" y="1773000"/>
              <a:chExt cx="1961640" cy="1378440"/>
            </a:xfrm>
          </p:grpSpPr>
          <p:pic>
            <p:nvPicPr>
              <p:cNvPr id="445" name="Прямоугольник с двумя скругленными противолежащими углами 44" descr=""/>
              <p:cNvPicPr/>
              <p:nvPr/>
            </p:nvPicPr>
            <p:blipFill>
              <a:blip r:embed="rId4"/>
              <a:stretch/>
            </p:blipFill>
            <p:spPr>
              <a:xfrm>
                <a:off x="1265400" y="1773000"/>
                <a:ext cx="1961640" cy="137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"/>
              <p:cNvSpPr/>
              <p:nvPr/>
            </p:nvSpPr>
            <p:spPr>
              <a:xfrm>
                <a:off x="1373760" y="1927800"/>
                <a:ext cx="1699200" cy="113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4b3e21"/>
                    </a:solidFill>
                    <a:latin typeface="Georgia"/>
                  </a:rPr>
                  <a:t>сбалансированность объема расходов и прогнозируемой величины доходов</a:t>
                </a:r>
                <a:endParaRPr b="0" lang="en-US" sz="11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cxnSp>
          <p:nvCxnSpPr>
            <p:cNvPr id="447" name="Прямая со стрелкой 25"/>
            <p:cNvCxnSpPr/>
            <p:nvPr/>
          </p:nvCxnSpPr>
          <p:spPr>
            <a:xfrm flipV="1">
              <a:off x="4849920" y="1452960"/>
              <a:ext cx="1080" cy="219600"/>
            </a:xfrm>
            <a:prstGeom prst="straightConnector1">
              <a:avLst/>
            </a:prstGeom>
            <a:ln w="15840">
              <a:solidFill>
                <a:srgbClr val="713204"/>
              </a:solidFill>
              <a:miter/>
            </a:ln>
          </p:spPr>
        </p:cxnSp>
        <p:grpSp>
          <p:nvGrpSpPr>
            <p:cNvPr id="448" name="Прямоугольник с двумя скругленными противолежащими углами 2"/>
            <p:cNvGrpSpPr/>
            <p:nvPr/>
          </p:nvGrpSpPr>
          <p:grpSpPr>
            <a:xfrm>
              <a:off x="1504440" y="928800"/>
              <a:ext cx="6842520" cy="556920"/>
              <a:chOff x="1504440" y="928800"/>
              <a:chExt cx="6842520" cy="556920"/>
            </a:xfrm>
          </p:grpSpPr>
          <p:pic>
            <p:nvPicPr>
              <p:cNvPr id="449" name="Прямоугольник с двумя скругленными противолежащими углами 2" descr=""/>
              <p:cNvPicPr/>
              <p:nvPr/>
            </p:nvPicPr>
            <p:blipFill>
              <a:blip r:embed="rId5"/>
              <a:stretch/>
            </p:blipFill>
            <p:spPr>
              <a:xfrm>
                <a:off x="1504440" y="928800"/>
                <a:ext cx="6842520" cy="55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>
                <a:off x="1568160" y="1043280"/>
                <a:ext cx="6668280" cy="38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4b3e21"/>
                    </a:solidFill>
                    <a:latin typeface="Georgia"/>
                  </a:rPr>
                  <a:t>Формирование проекта бюджета города Омска на очередной финансовый год и плановый период направлено на:</a:t>
                </a:r>
                <a:endParaRPr b="0" lang="en-US" sz="12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451" name="Прямоугольник с двумя скругленными противолежащими углами 45"/>
            <p:cNvGrpSpPr/>
            <p:nvPr/>
          </p:nvGrpSpPr>
          <p:grpSpPr>
            <a:xfrm>
              <a:off x="3879000" y="1778760"/>
              <a:ext cx="1961640" cy="1407240"/>
              <a:chOff x="3879000" y="1778760"/>
              <a:chExt cx="1961640" cy="1407240"/>
            </a:xfrm>
          </p:grpSpPr>
          <p:pic>
            <p:nvPicPr>
              <p:cNvPr id="452" name="Прямоугольник с двумя скругленными противолежащими углами 45" descr=""/>
              <p:cNvPicPr/>
              <p:nvPr/>
            </p:nvPicPr>
            <p:blipFill>
              <a:blip r:embed="rId6"/>
              <a:stretch/>
            </p:blipFill>
            <p:spPr>
              <a:xfrm>
                <a:off x="3879000" y="1778760"/>
                <a:ext cx="1961640" cy="140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"/>
              <p:cNvSpPr/>
              <p:nvPr/>
            </p:nvSpPr>
            <p:spPr>
              <a:xfrm>
                <a:off x="3988440" y="1933560"/>
                <a:ext cx="1697760" cy="115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4b3e21"/>
                    </a:solidFill>
                    <a:latin typeface="Georgia"/>
                  </a:rPr>
                  <a:t>минимизацию дефицита бюджета города Омска</a:t>
                </a:r>
                <a:endParaRPr b="0" lang="en-US" sz="11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cxnSp>
          <p:nvCxnSpPr>
            <p:cNvPr id="454" name="Прямая со стрелкой 71"/>
            <p:cNvCxnSpPr/>
            <p:nvPr/>
          </p:nvCxnSpPr>
          <p:spPr>
            <a:xfrm>
              <a:off x="2223000" y="1672200"/>
              <a:ext cx="5229000" cy="1080"/>
            </a:xfrm>
            <a:prstGeom prst="straightConnector1">
              <a:avLst/>
            </a:prstGeom>
            <a:ln w="15840">
              <a:solidFill>
                <a:srgbClr val="713204"/>
              </a:solidFill>
              <a:miter/>
            </a:ln>
          </p:spPr>
        </p:cxnSp>
        <p:cxnSp>
          <p:nvCxnSpPr>
            <p:cNvPr id="455" name="Прямая со стрелкой 74"/>
            <p:cNvCxnSpPr/>
            <p:nvPr/>
          </p:nvCxnSpPr>
          <p:spPr>
            <a:xfrm flipH="1">
              <a:off x="7447320" y="1659240"/>
              <a:ext cx="1080" cy="209880"/>
            </a:xfrm>
            <a:prstGeom prst="straightConnector1">
              <a:avLst/>
            </a:prstGeom>
            <a:ln w="15840">
              <a:solidFill>
                <a:srgbClr val="713204"/>
              </a:solidFill>
              <a:miter/>
              <a:tailEnd len="med" type="triangle" w="med"/>
            </a:ln>
          </p:spPr>
        </p:cxnSp>
        <p:cxnSp>
          <p:nvCxnSpPr>
            <p:cNvPr id="456" name="Прямая со стрелкой 76"/>
            <p:cNvCxnSpPr/>
            <p:nvPr/>
          </p:nvCxnSpPr>
          <p:spPr>
            <a:xfrm flipH="1">
              <a:off x="2222640" y="1659240"/>
              <a:ext cx="1080" cy="196920"/>
            </a:xfrm>
            <a:prstGeom prst="straightConnector1">
              <a:avLst/>
            </a:prstGeom>
            <a:ln w="15840">
              <a:solidFill>
                <a:srgbClr val="713204"/>
              </a:solidFill>
              <a:miter/>
              <a:tailEnd len="med" type="triangle" w="med"/>
            </a:ln>
          </p:spPr>
        </p:cxnSp>
        <p:cxnSp>
          <p:nvCxnSpPr>
            <p:cNvPr id="457" name="Прямая со стрелкой 84"/>
            <p:cNvCxnSpPr/>
            <p:nvPr/>
          </p:nvCxnSpPr>
          <p:spPr>
            <a:xfrm flipH="1">
              <a:off x="4849560" y="1672560"/>
              <a:ext cx="1080" cy="204480"/>
            </a:xfrm>
            <a:prstGeom prst="straightConnector1">
              <a:avLst/>
            </a:prstGeom>
            <a:ln w="15840">
              <a:solidFill>
                <a:srgbClr val="713204"/>
              </a:solidFill>
              <a:miter/>
              <a:tailEnd len="med" type="triangle" w="med"/>
            </a:ln>
          </p:spPr>
        </p:cxnSp>
        <p:grpSp>
          <p:nvGrpSpPr>
            <p:cNvPr id="458" name="Прямоугольник с двумя скругленными противолежащими углами 47"/>
            <p:cNvGrpSpPr/>
            <p:nvPr/>
          </p:nvGrpSpPr>
          <p:grpSpPr>
            <a:xfrm>
              <a:off x="6492960" y="1749960"/>
              <a:ext cx="1955880" cy="1436040"/>
              <a:chOff x="6492960" y="1749960"/>
              <a:chExt cx="1955880" cy="1436040"/>
            </a:xfrm>
          </p:grpSpPr>
          <p:pic>
            <p:nvPicPr>
              <p:cNvPr id="459" name="Прямоугольник с двумя скругленными противолежащими углами 47" descr=""/>
              <p:cNvPicPr/>
              <p:nvPr/>
            </p:nvPicPr>
            <p:blipFill>
              <a:blip r:embed="rId7"/>
              <a:stretch/>
            </p:blipFill>
            <p:spPr>
              <a:xfrm>
                <a:off x="6492960" y="1749960"/>
                <a:ext cx="1955880" cy="143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0" name=""/>
              <p:cNvSpPr/>
              <p:nvPr/>
            </p:nvSpPr>
            <p:spPr>
              <a:xfrm>
                <a:off x="6600600" y="1945440"/>
                <a:ext cx="1694160" cy="114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4b3e21"/>
                    </a:solidFill>
                    <a:latin typeface="Georgia"/>
                  </a:rPr>
                  <a:t>обязательность обеспечения первоочередных и приоритетных направлений расходования бюджета города Омска</a:t>
                </a:r>
                <a:endParaRPr b="0" lang="en-US" sz="11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sp>
        <p:nvSpPr>
          <p:cNvPr id="461" name="TextBox 17"/>
          <p:cNvSpPr/>
          <p:nvPr/>
        </p:nvSpPr>
        <p:spPr>
          <a:xfrm>
            <a:off x="954000" y="3573360"/>
            <a:ext cx="80661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ланирование бюджета города Омска осуществляется в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программном комплексе «Единая система управления бюджетным процессом»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о результатам проведенной Администрацией города Омска работы по составлению бюджета города Омска формируется проект Решения Омского городского Совета о бюджете города Омска на очередной финансовый год и плановый период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 проекте Решения Омского городского Совета о бюджете города Омска на очередной финансовый год и плановый период содержатся следующие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основные показатели бюджета города Омска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indent="35892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бщий объем доходов бюджета города Омска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indent="35892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бщий объем расходов бюджета города Омска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indent="35892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дефицит (профицит) бюджета города Омска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Номер слайда 10"/>
          <p:cNvSpPr/>
          <p:nvPr/>
        </p:nvSpPr>
        <p:spPr>
          <a:xfrm>
            <a:off x="685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C3A1-389C-4572-8ADD-04E3E6D8E1BF}" type="slidenum">
              <a:rPr b="1" lang="ru-RU" sz="14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3" name="Схема 11" descr=""/>
          <p:cNvPicPr/>
          <p:nvPr/>
        </p:nvPicPr>
        <p:blipFill>
          <a:blip r:embed="rId1"/>
          <a:stretch/>
        </p:blipFill>
        <p:spPr>
          <a:xfrm>
            <a:off x="469800" y="1579680"/>
            <a:ext cx="8618760" cy="511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4" name="Object 14"/>
          <p:cNvGraphicFramePr/>
          <p:nvPr/>
        </p:nvGraphicFramePr>
        <p:xfrm>
          <a:off x="250920" y="73080"/>
          <a:ext cx="506160" cy="42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5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73080"/>
                    <a:ext cx="50616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Прямоугольник 8"/>
          <p:cNvSpPr/>
          <p:nvPr/>
        </p:nvSpPr>
        <p:spPr>
          <a:xfrm>
            <a:off x="1195200" y="27000"/>
            <a:ext cx="28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75a8d"/>
                </a:solidFill>
                <a:latin typeface="Arial Black"/>
              </a:rPr>
              <a:t>Администрация города Омска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67" name="Прямоугольник с двумя скругленными противолежащими углами 9"/>
          <p:cNvGrpSpPr/>
          <p:nvPr/>
        </p:nvGrpSpPr>
        <p:grpSpPr>
          <a:xfrm>
            <a:off x="865080" y="208080"/>
            <a:ext cx="8223480" cy="590400"/>
            <a:chOff x="865080" y="208080"/>
            <a:chExt cx="8223480" cy="590400"/>
          </a:xfrm>
        </p:grpSpPr>
        <p:pic>
          <p:nvPicPr>
            <p:cNvPr id="468" name="Прямоугольник с двумя скругленными противолежащими углами 9" descr=""/>
            <p:cNvPicPr/>
            <p:nvPr/>
          </p:nvPicPr>
          <p:blipFill>
            <a:blip r:embed="rId4"/>
            <a:stretch/>
          </p:blipFill>
          <p:spPr>
            <a:xfrm>
              <a:off x="865080" y="208080"/>
              <a:ext cx="822348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992160" y="309600"/>
              <a:ext cx="79693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Georgia"/>
                </a:rPr>
                <a:t>Составление проекта бюджета города Омска</a:t>
              </a:r>
              <a:endParaRPr b="0" lang="en-US" sz="14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470" name="TextBox 5"/>
          <p:cNvSpPr/>
          <p:nvPr/>
        </p:nvSpPr>
        <p:spPr>
          <a:xfrm>
            <a:off x="957240" y="765000"/>
            <a:ext cx="802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13204"/>
                </a:solidFill>
                <a:latin typeface="Georgia"/>
              </a:rPr>
              <a:t>Проект Решения Омского городского Совета о бюджете города Омска на очередной финансовый год и плановый период устанавливает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10:06:15Z</dcterms:created>
  <dc:creator>Галина В. Кузлякина</dc:creator>
  <dc:description/>
  <dc:language>en-US</dc:language>
  <cp:lastModifiedBy>kschernaya</cp:lastModifiedBy>
  <dcterms:modified xsi:type="dcterms:W3CDTF">2013-06-20T08:54:37Z</dcterms:modified>
  <cp:revision>111</cp:revision>
  <dc:subject/>
  <dc:title>Составление проекта бюджета города Омска</dc:title>
</cp:coreProperties>
</file>